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5915C-886D-4D71-8D99-E3A871BB23A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4B2BC-1A0D-441D-9EC2-3C1F3D0C7C1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7645E-D7DF-453C-87C9-D459CCEEAF5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744CD-ADD4-4B30-9B24-BA2B4364FA3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55C67-EC5F-4E87-A503-0FB8408DEF5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3947-ECA5-4A78-99DD-40275F4764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E0CC-3A1D-4071-B611-A50656C8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4166-3DCE-4EF3-A3F5-61628A35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4A9C-31CF-4C9B-B72E-E020213328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33070-08B2-4538-BF47-1E1036B9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5315-2C22-41C2-8994-9AAD9897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E0646-8C76-4870-9D0B-EBA32109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417A-EA58-4E34-92DA-9F67ABF0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63C80-B297-421D-992F-C5A7E853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E768B-66F1-41FC-A0BC-48E22B7B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EFFBD-A256-4008-A306-2187F433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657B-6CD3-4CEE-B0F4-E741030E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FB2C4F-327A-40F0-A9D0-8C0AB0B83492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EL CICLO DEL A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ciclo del a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7199280" cy="324036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7"/>
          <p:cNvSpPr/>
          <p:nvPr/>
        </p:nvSpPr>
        <p:spPr>
          <a:xfrm>
            <a:off x="1800360" y="361008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598920" y="361008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5580000" y="328608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4319640" y="252900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6480000" y="2709720"/>
            <a:ext cx="179640" cy="17964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4859280" y="288936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5759280" y="4329000"/>
            <a:ext cx="179640" cy="17964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3025800" y="418320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971640" y="1557360"/>
            <a:ext cx="2195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energía solar,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calentar la Tierra, evapora el agua superficial. El vapor de agua asciende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 el aire cali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3851280" y="1341360"/>
            <a:ext cx="22334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vapor se condensa, dando lugar 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nub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6335640" y="549360"/>
            <a:ext cx="28083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ndo las gotas de agua de las nubes se hacen grandes o se congelan,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en en forma de precipitacion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643280" y="5227560"/>
            <a:ext cx="306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agua de las precipitaciones forma corrientes superficiales que se deslizan haci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océano o bien se infiltra formando aguas subterráne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23 CuadroTexto"/>
          <p:cNvSpPr/>
          <p:nvPr/>
        </p:nvSpPr>
        <p:spPr>
          <a:xfrm>
            <a:off x="539640" y="1628640"/>
            <a:ext cx="360360" cy="368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24 CuadroTexto"/>
          <p:cNvSpPr/>
          <p:nvPr/>
        </p:nvSpPr>
        <p:spPr>
          <a:xfrm>
            <a:off x="3419640" y="1413000"/>
            <a:ext cx="360360" cy="368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25 CuadroTexto"/>
          <p:cNvSpPr/>
          <p:nvPr/>
        </p:nvSpPr>
        <p:spPr>
          <a:xfrm>
            <a:off x="5940360" y="620640"/>
            <a:ext cx="360360" cy="368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26 CuadroTexto"/>
          <p:cNvSpPr/>
          <p:nvPr/>
        </p:nvSpPr>
        <p:spPr>
          <a:xfrm>
            <a:off x="4211640" y="5516640"/>
            <a:ext cx="360360" cy="368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19:50Z</dcterms:modified>
  <cp:revision>47</cp:revision>
  <dc:subject/>
  <dc:title>Diapositiva 1</dc:title>
</cp:coreProperties>
</file>